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The%20Jingle%20Start.wav" ContentType="audio/x-wav"/>
  <Override PartName="/ppt/media/image4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ED1-3F22-4112-836A-8A8D595D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B30-5BAB-47B2-9B0C-C6A61ED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E2C-F720-49F3-A48E-57AB458A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37B-2A91-4436-BEF5-15B0A15D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358F-2627-4C3B-857B-FABCD2E3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0C53-4F17-4FF3-B69D-980809E0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916C-FA44-4C5A-967D-B35D797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E910-2509-4888-A2C6-A52FF61C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73B-AC0A-417A-B34E-A9F1D58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B884-CDF5-4AC8-B056-7DDA600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C3A-E892-4492-AD3F-9439A76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9DD-BC5A-4D12-9B4E-376791D4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2CD6-6649-42F0-9E24-76ADAC1C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6B7-0D79-42DB-B306-1FF42F1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A94-0801-4512-878F-13E9FEEB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0D08-B2C9-4997-8B8D-3E591270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A892-BD4D-4F5D-8556-B3D9617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ABC-5BE3-4CDF-A406-E6CF1B8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88D-FAC2-4073-886E-9A141CD0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057-5DB4-4248-9096-58591C70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869-FE10-45D9-BA5B-0D23A39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519-A578-4DD6-B20E-8F066753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E13-CEAA-4094-BA4E-B2D8752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2BF-6E28-4CF8-A791-A4C7E505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DDD-A21C-4542-BCEC-A7E87555E4B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7CA-3988-4B4C-B38C-E14910BA2FA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K%20A%20R%20T%20A%20%20%20%20P%20R%20A%20C%20Y.doc" TargetMode="External"/><Relationship Id="rId5" Type="http://schemas.openxmlformats.org/officeDocument/2006/relationships/audio" Target="../media/The%20Jingle%20Start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%20A%20R%20T%20A%20%20%20%20P%20R%20A%20C%20Y.doc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file:///K%20A%20R%20T%20A%20%20%20%20P%20R%20A%20C%20Y.doc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file:///K%20A%20R%20T%20A%20%20%20%20P%20R%20A%20C%20Y.doc" TargetMode="Externa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09480" y="60948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effectLst>
                  <a:outerShdw dist="119669" dir="1918130" blurRad="0" rotWithShape="0">
                    <a:srgbClr val="365d96"/>
                  </a:outerShdw>
                </a:effectLst>
                <a:latin typeface="Arial Black"/>
              </a:rPr>
              <a:t>CZAS PRZESZŁY PROSTY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effectLst>
                <a:outerShdw dist="119669" dir="1918130" blurRad="0" rotWithShape="0">
                  <a:srgbClr val="365d9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76720" y="2057400"/>
            <a:ext cx="1676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effectLst>
                  <a:outerShdw dist="119669" dir="1918130" blurRad="0" rotWithShape="0">
                    <a:srgbClr val="365d96"/>
                  </a:outerShdw>
                </a:effectLst>
                <a:latin typeface="Arial Black"/>
              </a:rPr>
              <a:t>CZYLI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effectLst>
                <a:outerShdw dist="119669" dir="1918130" blurRad="0" rotWithShape="0">
                  <a:srgbClr val="365d9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3526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effectLst>
                  <a:outerShdw dist="119669" dir="1918130" blurRad="0" rotWithShape="0">
                    <a:srgbClr val="365d96"/>
                  </a:outerShdw>
                </a:effectLst>
                <a:latin typeface="Arial Black"/>
              </a:rPr>
              <a:t>PAST SIMPLE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effectLst>
                <a:outerShdw dist="119669" dir="1918130" blurRad="0" rotWithShape="0">
                  <a:srgbClr val="365d9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4800600"/>
            <a:ext cx="609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19669" dir="1918130" blurRad="0" rotWithShape="0">
                    <a:srgbClr val="365d96"/>
                  </a:outerShdw>
                </a:effectLst>
                <a:latin typeface="Arial Black"/>
              </a:rPr>
              <a:t>by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19669" dir="1918130" blurRad="0" rotWithShape="0">
                  <a:srgbClr val="365d9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800600" y="533412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19669" dir="1918130" blurRad="0" rotWithShape="0">
                    <a:srgbClr val="365d96"/>
                  </a:outerShdw>
                </a:effectLst>
                <a:latin typeface="Arial Black"/>
              </a:rPr>
              <a:t>Teresa Osmann</a:t>
            </a:r>
            <a:endParaRPr b="0" i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19669" dir="1918130" blurRad="0" rotWithShape="0">
                  <a:srgbClr val="365d9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0958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oland31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4"/>
          </p:cNvPr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 advTm="8000">
    <p:blinds dir="horz"/>
    <p:sndAc>
      <p:stSnd>
        <p:snd r:embed="rId5" name="The%20Jingle%20Sta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awda, że to prost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371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6d90"/>
                </a:solidFill>
                <a:latin typeface="Times New Roman"/>
              </a:rPr>
              <a:t>Poćwiczmy: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981080"/>
            <a:ext cx="5181480" cy="581400"/>
          </a:xfrm>
          <a:prstGeom prst="rect">
            <a:avLst/>
          </a:prstGeom>
          <a:gradFill rotWithShape="0">
            <a:gsLst>
              <a:gs pos="0">
                <a:srgbClr val="97965f"/>
              </a:gs>
              <a:gs pos="50000">
                <a:srgbClr val="d8d688"/>
              </a:gs>
              <a:gs pos="100000">
                <a:srgbClr val="9796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Peter watched TV last week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809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6d90"/>
                </a:solidFill>
                <a:latin typeface="Times New Roman"/>
              </a:rPr>
              <a:t>Ułóżmy pytanie: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4724280"/>
            <a:ext cx="6172200" cy="579600"/>
          </a:xfrm>
          <a:prstGeom prst="rect">
            <a:avLst/>
          </a:prstGeom>
          <a:gradFill rotWithShape="0">
            <a:gsLst>
              <a:gs pos="0">
                <a:srgbClr val="97965f"/>
              </a:gs>
              <a:gs pos="50000">
                <a:srgbClr val="d8d688"/>
              </a:gs>
              <a:gs pos="100000">
                <a:srgbClr val="9796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V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las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week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TV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las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week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Did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724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819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c62"/>
                </a:solidFill>
                <a:latin typeface="Times New Roman"/>
              </a:rPr>
              <a:t>Piotr oglądał telewizję w zeszłym tygodniu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71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c62"/>
                </a:solidFill>
                <a:latin typeface="Times New Roman"/>
              </a:rPr>
              <a:t>Czy Piotr oglądał telewizję w zeszłym tygodniu?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214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7524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1143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oland31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oland31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31000">
    <p:blinds dir="vert"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304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6d90"/>
                </a:solidFill>
                <a:latin typeface="Times New Roman"/>
              </a:rPr>
              <a:t>Ułóżmy odpowiedzi: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523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Yes, he did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1523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No, he didn’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c6d90"/>
                </a:solidFill>
                <a:latin typeface="Times New Roman"/>
              </a:rPr>
              <a:t>(zgoda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c6d90"/>
                </a:solidFill>
                <a:latin typeface="Times New Roman"/>
              </a:rPr>
              <a:t>(przeczenie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3623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6d90"/>
                </a:solidFill>
                <a:latin typeface="Times New Roman"/>
              </a:rPr>
              <a:t>A jak utworzyć zdanie przeczące?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3429000"/>
            <a:ext cx="5181840" cy="581400"/>
          </a:xfrm>
          <a:prstGeom prst="rect">
            <a:avLst/>
          </a:prstGeom>
          <a:gradFill rotWithShape="0">
            <a:gsLst>
              <a:gs pos="0">
                <a:srgbClr val="97965f"/>
              </a:gs>
              <a:gs pos="50000">
                <a:srgbClr val="d8d688"/>
              </a:gs>
              <a:gs pos="100000">
                <a:srgbClr val="9796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Peter watched TV last week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V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las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week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5486400"/>
            <a:ext cx="5943600" cy="457200"/>
          </a:xfrm>
          <a:prstGeom prst="rect">
            <a:avLst/>
          </a:prstGeom>
          <a:gradFill rotWithShape="0">
            <a:gsLst>
              <a:gs pos="0">
                <a:srgbClr val="a4a367"/>
              </a:gs>
              <a:gs pos="50000">
                <a:srgbClr val="d8d688"/>
              </a:gs>
              <a:gs pos="100000">
                <a:srgbClr val="a4a3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TV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las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week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61c62"/>
                </a:solidFill>
                <a:latin typeface="Times New Roman"/>
              </a:rPr>
              <a:t>didn’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c6d90"/>
                </a:solidFill>
                <a:latin typeface="Times New Roman"/>
              </a:rPr>
              <a:t>(zdanie twierdzące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c6d90"/>
                </a:solidFill>
                <a:latin typeface="Times New Roman"/>
              </a:rPr>
              <a:t>(zdanie przeczące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14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c62"/>
                </a:solidFill>
                <a:latin typeface="Times New Roman"/>
              </a:rPr>
              <a:t>Piotr oglądał telewizję w zeszłym tygodniu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6019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c62"/>
                </a:solidFill>
                <a:latin typeface="Times New Roman"/>
              </a:rPr>
              <a:t>Piotr nie oglądał telewizji w zeszłym tygodniu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242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10666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poland31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572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oland31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152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35000">
    <p:blinds dir="horz"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Więcej przykładów </a:t>
            </a:r>
            <a:br>
              <a:rPr sz="4400"/>
            </a:b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w karcie pracy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660066"/>
                </a:solidFill>
                <a:latin typeface="Times New Roman"/>
              </a:rPr>
              <a:t>Good luck!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Powodzenia!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250" name="G1-4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3047760" cy="1904760"/>
          </a:xfrm>
          <a:prstGeom prst="rect">
            <a:avLst/>
          </a:prstGeom>
          <a:ln w="0">
            <a:noFill/>
          </a:ln>
        </p:spPr>
      </p:pic>
      <p:pic>
        <p:nvPicPr>
          <p:cNvPr id="251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335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oland31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380988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9000">
    <p:blinds dir="vert"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Myślę, 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że 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teraz już wiesz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 jak stosować czas przeszły prosty, 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czyli 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Past Simp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255" name="poland31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609480" y="838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6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816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14000">
    <p:blinds dir="horz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Kiedy używamy czasu przeszłego prostego</a:t>
            </a:r>
            <a:br>
              <a:rPr sz="3600"/>
            </a:b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 Past Simple?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Dla wyrażenia czynności i zdarzeń, które miały miejsce i zakończyły się w przeszłości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>
            <a:hlinkClick r:id="rId2"/>
          </p:cNvPr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spd="med" advTm="7000">
    <p:blinds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Jak tworzymy czas Past Simple?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Do czasownika podstawowego dodajemy końcówkę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~ed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505320"/>
            <a:ext cx="3200400" cy="703440"/>
          </a:xfrm>
          <a:prstGeom prst="rect">
            <a:avLst/>
          </a:prstGeom>
          <a:gradFill rotWithShape="0">
            <a:gsLst>
              <a:gs pos="0">
                <a:srgbClr val="d8d688"/>
              </a:gs>
              <a:gs pos="100000">
                <a:srgbClr val="636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d2525"/>
                </a:solidFill>
                <a:latin typeface="Times New Roman"/>
              </a:rPr>
              <a:t>They play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505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66"/>
                </a:solidFill>
                <a:latin typeface="Times New Roman"/>
              </a:rPr>
              <a:t>ed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505320"/>
            <a:ext cx="3733920" cy="703440"/>
          </a:xfrm>
          <a:prstGeom prst="rect">
            <a:avLst/>
          </a:prstGeom>
          <a:gradFill rotWithShape="0">
            <a:gsLst>
              <a:gs pos="0">
                <a:srgbClr val="d8d688"/>
              </a:gs>
              <a:gs pos="100000">
                <a:srgbClr val="636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d2525"/>
                </a:solidFill>
                <a:latin typeface="Times New Roman"/>
              </a:rPr>
              <a:t>tennis yesterday.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4100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Są to tzw. czasowniki regularne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648320"/>
            <a:ext cx="4952880" cy="581400"/>
          </a:xfrm>
          <a:prstGeom prst="rect">
            <a:avLst/>
          </a:prstGeom>
          <a:gradFill rotWithShape="0">
            <a:gsLst>
              <a:gs pos="0">
                <a:srgbClr val="a7b4b7"/>
              </a:gs>
              <a:gs pos="100000">
                <a:srgbClr val="5c6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525"/>
                </a:solidFill>
                <a:latin typeface="Times New Roman"/>
              </a:rPr>
              <a:t>Oni grali w tenisa wczoraj.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6" name="poland31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20574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0102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4"/>
          </p:cNvPr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11000">
    <p:blinds dir="vert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d2525"/>
                </a:solidFill>
                <a:latin typeface="Times New Roman"/>
              </a:rPr>
              <a:t>I missed</a:t>
            </a:r>
            <a:r>
              <a:rPr b="0" lang="pl-PL" sz="2800" spc="-1" strike="noStrike">
                <a:solidFill>
                  <a:srgbClr val="2d2525"/>
                </a:solidFill>
                <a:latin typeface="Times New Roman"/>
              </a:rPr>
              <a:t> the bus this morning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1" name="GOLD018" descr=""/>
          <p:cNvPicPr/>
          <p:nvPr/>
        </p:nvPicPr>
        <p:blipFill>
          <a:blip r:embed="rId2"/>
          <a:stretch/>
        </p:blipFill>
        <p:spPr>
          <a:xfrm>
            <a:off x="4113360" y="3048120"/>
            <a:ext cx="3201840" cy="2000160"/>
          </a:xfrm>
          <a:prstGeom prst="rect">
            <a:avLst/>
          </a:prstGeom>
          <a:ln w="0">
            <a:noFill/>
          </a:ln>
        </p:spPr>
      </p:pic>
      <p:pic>
        <p:nvPicPr>
          <p:cNvPr id="112" name="G4-4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3047760" cy="190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5562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późniłem się na autobus tego ranka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990720"/>
            <a:ext cx="609480" cy="99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0720" y="3200400"/>
            <a:ext cx="45720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429000" y="4419720"/>
            <a:ext cx="1828800" cy="457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roa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4648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snai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0" name="greatbritain31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739152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oland31" descr="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6400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6"/>
          </p:cNvPr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10000">
    <p:blinds dir="horz"/>
    <p:sndAc>
      <p:stSnd>
        <p:snd r:embed="rId7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d2525"/>
                </a:solidFill>
                <a:latin typeface="Times New Roman"/>
              </a:rPr>
              <a:t>I crashed</a:t>
            </a:r>
            <a:r>
              <a:rPr b="0" lang="pl-PL" sz="2800" spc="-1" strike="noStrike">
                <a:solidFill>
                  <a:srgbClr val="2d2525"/>
                </a:solidFill>
                <a:latin typeface="Times New Roman"/>
              </a:rPr>
              <a:t> it yesterday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5" name="BB5-4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304776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81280" y="5029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ozbiłem to wczoraj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14600" y="3429000"/>
            <a:ext cx="2286000" cy="76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86000" y="3885840"/>
            <a:ext cx="3733920" cy="10666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hick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eg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1" name="greatbritain31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0948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poland31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69343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9000">
    <p:blinds dir="horz"/>
    <p:sndAc>
      <p:stSnd>
        <p:snd r:embed="rId5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61c62"/>
                </a:solidFill>
                <a:latin typeface="Times New Roman"/>
              </a:rPr>
              <a:t>Forma pytają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2d2525"/>
                </a:solidFill>
                <a:latin typeface="Times New Roman"/>
              </a:rPr>
              <a:t>Formę pytającą czasu </a:t>
            </a:r>
            <a:r>
              <a:rPr b="1" i="1" lang="pl-PL" sz="2800" spc="-1" strike="noStrike">
                <a:solidFill>
                  <a:srgbClr val="2d2525"/>
                </a:solidFill>
                <a:latin typeface="Times New Roman"/>
              </a:rPr>
              <a:t>Past</a:t>
            </a:r>
            <a:r>
              <a:rPr b="0" i="1" lang="pl-PL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2d2525"/>
                </a:solidFill>
                <a:latin typeface="Times New Roman"/>
              </a:rPr>
              <a:t>Simple </a:t>
            </a:r>
            <a:r>
              <a:rPr b="0" i="1" lang="pl-PL" sz="2800" spc="-1" strike="noStrike">
                <a:solidFill>
                  <a:srgbClr val="2d2525"/>
                </a:solidFill>
                <a:latin typeface="Times New Roman"/>
              </a:rPr>
              <a:t>tworzymy przez dodanie czasownika posiłkowego </a:t>
            </a:r>
            <a:r>
              <a:rPr b="1" i="1" lang="pl-PL" sz="2800" spc="-1" strike="noStrike">
                <a:solidFill>
                  <a:srgbClr val="ff0066"/>
                </a:solidFill>
                <a:latin typeface="Times New Roman"/>
              </a:rPr>
              <a:t>did</a:t>
            </a:r>
            <a:r>
              <a:rPr b="0" i="1" lang="pl-PL" sz="2800" spc="-1" strike="noStrike">
                <a:solidFill>
                  <a:srgbClr val="2d2525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did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819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525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743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1c62"/>
                </a:solidFill>
                <a:latin typeface="Times New Roman"/>
              </a:rPr>
              <a:t>czasownik główny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2525"/>
                </a:solidFill>
                <a:latin typeface="Times New Roman"/>
              </a:rPr>
              <a:t>Did you play tennis yesterday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8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Did</a:t>
            </a:r>
            <a:r>
              <a:rPr b="1" lang="pl-PL" sz="3200" spc="-1" strike="noStrike">
                <a:solidFill>
                  <a:srgbClr val="2d2525"/>
                </a:solidFill>
                <a:latin typeface="Times New Roman"/>
              </a:rPr>
              <a:t> you </a:t>
            </a: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play</a:t>
            </a:r>
            <a:r>
              <a:rPr b="1" lang="pl-PL" sz="3200" spc="-1" strike="noStrike">
                <a:solidFill>
                  <a:srgbClr val="2d2525"/>
                </a:solidFill>
                <a:latin typeface="Times New Roman"/>
              </a:rPr>
              <a:t> tennis yesterday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105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525"/>
                </a:solidFill>
                <a:latin typeface="Times New Roman"/>
              </a:rPr>
              <a:t>Czy grałeś wczoraj w tenisa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42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2193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oland31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1219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10000">
    <p:blinds dir="vert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61c62"/>
                </a:solidFill>
                <a:latin typeface="Times New Roman"/>
              </a:rPr>
              <a:t>przykład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05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2d2525"/>
                </a:solidFill>
                <a:latin typeface="Times New Roman"/>
              </a:rPr>
              <a:t>Did</a:t>
            </a:r>
            <a:r>
              <a:rPr b="0" lang="pl-PL" sz="3600" spc="-1" strike="noStrike">
                <a:solidFill>
                  <a:srgbClr val="2d2525"/>
                </a:solidFill>
                <a:latin typeface="Times New Roman"/>
              </a:rPr>
              <a:t> you </a:t>
            </a:r>
            <a:r>
              <a:rPr b="1" lang="pl-PL" sz="3600" spc="-1" strike="noStrike">
                <a:solidFill>
                  <a:srgbClr val="2d2525"/>
                </a:solidFill>
                <a:latin typeface="Times New Roman"/>
              </a:rPr>
              <a:t>remember</a:t>
            </a:r>
            <a:r>
              <a:rPr b="0" lang="pl-PL" sz="3600" spc="-1" strike="noStrike">
                <a:solidFill>
                  <a:srgbClr val="2d2525"/>
                </a:solidFill>
                <a:latin typeface="Times New Roman"/>
              </a:rPr>
              <a:t> her birthday</a:t>
            </a:r>
            <a:r>
              <a:rPr b="1" lang="pl-PL" sz="3600" spc="-1" strike="noStrike">
                <a:solidFill>
                  <a:srgbClr val="2d2525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05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Did</a:t>
            </a:r>
            <a:r>
              <a:rPr b="0" lang="pl-PL" sz="3600" spc="-1" strike="noStrike">
                <a:solidFill>
                  <a:srgbClr val="2d2525"/>
                </a:solidFill>
                <a:latin typeface="Times New Roman"/>
              </a:rPr>
              <a:t> you </a:t>
            </a:r>
            <a:r>
              <a:rPr b="1" lang="pl-PL" sz="3600" spc="-1" strike="noStrike">
                <a:solidFill>
                  <a:srgbClr val="ff0066"/>
                </a:solidFill>
                <a:latin typeface="Times New Roman"/>
              </a:rPr>
              <a:t>remember</a:t>
            </a:r>
            <a:r>
              <a:rPr b="0" lang="pl-PL" sz="3600" spc="-1" strike="noStrike">
                <a:solidFill>
                  <a:srgbClr val="2d2525"/>
                </a:solidFill>
                <a:latin typeface="Times New Roman"/>
              </a:rPr>
              <a:t> her birthday</a:t>
            </a:r>
            <a:r>
              <a:rPr b="1" lang="pl-PL" sz="3600" spc="-1" strike="noStrike">
                <a:solidFill>
                  <a:srgbClr val="2d2525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48" name="EGG0107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15145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EGG0108" descr=""/>
          <p:cNvPicPr/>
          <p:nvPr/>
        </p:nvPicPr>
        <p:blipFill>
          <a:blip r:embed="rId3"/>
          <a:stretch/>
        </p:blipFill>
        <p:spPr>
          <a:xfrm>
            <a:off x="5257800" y="3429000"/>
            <a:ext cx="161784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EGG0230" descr=""/>
          <p:cNvPicPr/>
          <p:nvPr/>
        </p:nvPicPr>
        <p:blipFill>
          <a:blip r:embed="rId4"/>
          <a:stretch/>
        </p:blipFill>
        <p:spPr>
          <a:xfrm>
            <a:off x="2895480" y="342900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B3-3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6858000" cy="320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58672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8672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525"/>
                </a:solidFill>
                <a:latin typeface="Times New Roman"/>
              </a:rPr>
              <a:t>Czy pamiętałeś o jej urodzinach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54" name="greatbritain31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762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oland31" descr="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67057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9000">
    <p:blinds dir="horz"/>
    <p:sndAc>
      <p:stSnd>
        <p:snd r:embed="rId8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Odpowiadamy</a:t>
            </a:r>
            <a:br>
              <a:rPr sz="2800"/>
            </a:br>
            <a:r>
              <a:rPr b="1" lang="en-US" sz="2800" spc="-1" strike="noStrike">
                <a:solidFill>
                  <a:srgbClr val="365d96"/>
                </a:solidFill>
                <a:latin typeface="Times New Roman"/>
              </a:rPr>
              <a:t>[gdy się zgadzamy]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2d2525"/>
                </a:solidFill>
                <a:latin typeface="Times New Roman"/>
              </a:rPr>
              <a:t>Yes, I </a:t>
            </a:r>
            <a:r>
              <a:rPr b="1" i="1" lang="pl-PL" sz="3600" spc="-1" strike="noStrike">
                <a:solidFill>
                  <a:srgbClr val="ff0066"/>
                </a:solidFill>
                <a:latin typeface="Times New Roman"/>
              </a:rPr>
              <a:t>did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1337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lub</a:t>
            </a:r>
            <a:r>
              <a:rPr b="1" lang="en-US" sz="28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d96"/>
                </a:solidFill>
                <a:latin typeface="Times New Roman"/>
              </a:rPr>
              <a:t>[gdy zaprzeczamy]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2767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2d2525"/>
                </a:solidFill>
                <a:latin typeface="Times New Roman"/>
              </a:rPr>
              <a:t>No, I </a:t>
            </a:r>
            <a:r>
              <a:rPr b="1" i="1" lang="pl-PL" sz="3600" spc="-1" strike="noStrike">
                <a:solidFill>
                  <a:srgbClr val="ff0066"/>
                </a:solidFill>
                <a:latin typeface="Times New Roman"/>
              </a:rPr>
              <a:t>didn’t.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4479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2525"/>
                </a:solidFill>
                <a:latin typeface="Times New Roman"/>
              </a:rPr>
              <a:t>Tak.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3526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2525"/>
                </a:solidFill>
                <a:latin typeface="Times New Roman"/>
              </a:rPr>
              <a:t>Nie.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752480"/>
            <a:ext cx="1981080" cy="0"/>
          </a:xfrm>
          <a:prstGeom prst="line">
            <a:avLst/>
          </a:prstGeom>
          <a:ln w="1908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657600"/>
            <a:ext cx="1752480" cy="0"/>
          </a:xfrm>
          <a:prstGeom prst="line">
            <a:avLst/>
          </a:prstGeom>
          <a:ln w="1908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95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61c62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495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1c62"/>
                </a:solidFill>
                <a:latin typeface="Times New Roman"/>
              </a:rPr>
              <a:t>no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7400" y="3809880"/>
            <a:ext cx="380880" cy="7621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809880"/>
            <a:ext cx="152280" cy="8384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276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d8d688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32767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d8d688"/>
                </a:solidFill>
                <a:latin typeface="Times New Roman"/>
              </a:rPr>
              <a:t>n’t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71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621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oland31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6858000" y="114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13000">
    <p:blinds dir="vert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Typowe określenia czasu </a:t>
            </a:r>
            <a:br>
              <a:rPr sz="4400"/>
            </a:br>
            <a:r>
              <a:rPr b="0" lang="pl-PL" sz="4400" spc="-1" strike="noStrike">
                <a:solidFill>
                  <a:srgbClr val="061c62"/>
                </a:solidFill>
                <a:latin typeface="Times New Roman"/>
              </a:rPr>
              <a:t>Past Simp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d2525"/>
                </a:solidFill>
                <a:latin typeface="Times New Roman"/>
              </a:rPr>
              <a:t>yesterda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21337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86840"/>
                </a:solidFill>
                <a:latin typeface="Times New Roman"/>
              </a:rPr>
              <a:t>wczoraj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7432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d2525"/>
                </a:solidFill>
                <a:latin typeface="Times New Roman"/>
              </a:rPr>
              <a:t>last week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27432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86840"/>
                </a:solidFill>
                <a:latin typeface="Times New Roman"/>
              </a:rPr>
              <a:t>w zeszłym tygodniu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5053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d2525"/>
                </a:solidFill>
                <a:latin typeface="Times New Roman"/>
              </a:rPr>
              <a:t>a year ago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5053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86840"/>
                </a:solidFill>
                <a:latin typeface="Times New Roman"/>
              </a:rPr>
              <a:t>rok temu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19112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d2525"/>
                </a:solidFill>
                <a:latin typeface="Times New Roman"/>
              </a:rPr>
              <a:t>in 1996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86840"/>
                </a:solidFill>
                <a:latin typeface="Times New Roman"/>
              </a:rPr>
              <a:t>w 1996 roku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49528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d2525"/>
                </a:solidFill>
                <a:latin typeface="Times New Roman"/>
              </a:rPr>
              <a:t>in January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9528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86840"/>
                </a:solidFill>
                <a:latin typeface="Times New Roman"/>
              </a:rPr>
              <a:t>w styczniu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362320"/>
            <a:ext cx="1295280" cy="152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7b4b7"/>
              </a:gs>
              <a:gs pos="100000">
                <a:srgbClr val="d8d688"/>
              </a:gs>
            </a:gsLst>
            <a:lin ang="108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971800"/>
            <a:ext cx="1295280" cy="152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7b4b7"/>
              </a:gs>
              <a:gs pos="100000">
                <a:srgbClr val="d8d688"/>
              </a:gs>
            </a:gsLst>
            <a:lin ang="108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733920"/>
            <a:ext cx="1295280" cy="152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7b4b7"/>
              </a:gs>
              <a:gs pos="100000">
                <a:srgbClr val="d8d688"/>
              </a:gs>
            </a:gsLst>
            <a:lin ang="108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343400"/>
            <a:ext cx="1295280" cy="152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7b4b7"/>
              </a:gs>
              <a:gs pos="100000">
                <a:srgbClr val="d8d688"/>
              </a:gs>
            </a:gsLst>
            <a:lin ang="108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5181480"/>
            <a:ext cx="1295280" cy="152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a7b4b7"/>
              </a:gs>
              <a:gs pos="100000">
                <a:srgbClr val="d8d688"/>
              </a:gs>
            </a:gsLst>
            <a:lin ang="108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.. etc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... itd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92" name="greatbritain31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57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poland31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086600" y="1828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848720" y="0"/>
            <a:ext cx="1295280" cy="380880"/>
          </a:xfrm>
          <a:prstGeom prst="bevel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eeaf2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KARTA PRACY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 advTm="22000">
    <p:blinds dir="horz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8:43:19Z</dcterms:created>
  <dc:creator>Teresa Osmann</dc:creator>
  <dc:description/>
  <dc:language>en-US</dc:language>
  <cp:lastModifiedBy>Johny</cp:lastModifiedBy>
  <dcterms:modified xsi:type="dcterms:W3CDTF">2002-12-04T20:37:20Z</dcterms:modified>
  <cp:revision>16</cp:revision>
  <dc:subject>Czas przeszły prosty, czyli Past Simple</dc:subject>
  <dc:title>Prezentacja programu PowerPoint</dc:title>
</cp:coreProperties>
</file>